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89D-1CD5-401A-8DCF-EE8C39A3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77C-6ED7-4C73-9C7D-CABB28BA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3DB-AAB2-407A-A19D-8402CD04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2E5-36F6-458D-A6C2-83A52F56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E47-A639-49D5-890B-91B581B5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9B5-2906-4BE9-8B16-E7707DB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639E-4AB0-43C8-A015-2D06C37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5CA6-FC1E-4C2A-B530-24D1D46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448E-9BDC-433B-920F-BE498252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259-AC14-4EE7-A662-EF9F1780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F779-49B0-49B7-A0E7-9523C78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A3B-8C68-4E7B-B195-668ACEC9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B40C-3595-4BD8-A36A-F7E5F29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E53-BD25-4BCE-AC39-9DFA259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BED3-E6A6-490E-9305-8DF7F5C5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EF73-4D6E-45A2-ABC6-B8C3AC2B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950-98E7-4265-9F3B-33E73753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AFDC-DCC7-4965-8929-8679F202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32A1-34A0-4F75-9D40-F7EC013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3690-7366-45E7-A368-931F0715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080A-FFD9-4339-A65A-F368B61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F8FF-D751-482F-B96B-47DA870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A0B-1E75-482B-BAE4-88200F9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2FBD-1891-4AF1-B3EB-FFAE6C6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0F28-CD33-4318-990E-9E16A48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4826-1FC4-41B1-B265-12D8FB4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B3A2-CE50-4DC6-B086-08CE296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A632-59F3-40DA-BF19-BF6545D3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FE84-3FCA-4CC7-AC6B-9E1230DD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9BD9-C65B-4023-A8C0-949DB221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DDA88-C380-4AD1-AF4C-BC83C675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87891-8C8A-4527-9772-C7BC6CF9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EB1929-DE88-4C0B-B012-BEBC318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170-8D7A-4803-8431-4363A61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08FFB-C7DC-44BF-9BA8-B1FFBFC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D2A4A-C654-44D4-8DB0-D07E176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A476F-88D8-41FD-A86B-83BC4FA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16107-60D0-4D60-9E19-1B6395FE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CC954-2FF3-4A63-88F5-A69EB83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47903-63D8-49FD-8F75-001F4AD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17051-B4A6-46D2-957B-4B97ED4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A824E-F90C-46C6-A361-4E4D35B1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222D0-079C-4E37-8306-27BD94E1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B1260-F5F6-4763-B7AD-191691FD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140-140E-44C5-90C4-8BAAA3D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BB73-15B7-4499-8405-05F3B241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4669-1D92-4273-9D18-A0DD253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9270-6B30-4165-906D-8F57058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3A3C-D1CF-4275-A6ED-70B6C050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835C1-FEA2-416D-A91C-12C28FA3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6E29-ECAB-4A13-9107-CC264B67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DD22-2E33-4498-A58E-AA22648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9D676-127B-4FDF-9279-5E2AAC5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C917E-8020-4FE0-8DF1-AA58C678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6A77-E9D5-4670-9007-03F0AD41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775-78AE-4C85-ABB1-9E85EEB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47DE-719D-49FE-A170-60D0CDA4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9F3B8-3B32-4ACD-8E9D-19B16AE4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149F-7DD7-42AB-B048-38CEED81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3EE3-CD47-404E-80D4-944DD772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7DF73-4D66-4D32-95CB-4DB76B75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1AFF-EB34-4DBE-8109-60E71EC2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D3205-8CD6-4A35-9EED-DDBA560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139CB-6646-4EC8-8AA0-7688D06D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CCD3-C8C4-406B-A6A6-95F43FB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D30F-BD7A-42FB-A82E-544E1F0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06E-46F3-4726-91B4-501AFB1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22CC-3EE0-4684-BEFF-B4BAFE2E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4C10-6B20-46CC-B9A2-1C2A2558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4C70-77A2-4754-84F6-C65E2BF5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95B7-3893-49DC-BD82-E4BC0FB5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F0E9A-CC30-4170-865E-BB599C0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A07B-8088-4913-B8DA-95716A2B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65793-DDFF-45AA-9C61-0CFBC59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1E4E-B391-4EEB-A58B-6252EB86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646E9-39D1-4E06-8538-5577228D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F5B45-BDC4-4934-8524-256843D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5AA-2BED-4D05-80A0-A79EBC2C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F356F-169D-4452-9EC8-6E7061F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A5F0-F435-43F4-89F8-F29F095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A778-FD35-4862-A47C-E5E87E7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A56B-A98E-4788-BFE0-8668270D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4CBD-93EC-4CA6-8836-DF7A14DA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F60F-974D-43EE-AF77-6AC3D208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5759-B4AB-49EF-BD5B-C961749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5CCF-9A1F-41A9-821F-FB2600D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9DF98-BBBD-4878-A38B-1BA5FEC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BDD5-3821-49F6-BA6A-694E551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6D2-1722-46ED-8127-BEB1DD72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008CE-A4A9-49B1-9AEF-C466E39B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56905-66EE-4B8D-BB13-8CE00CC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A4B9-CD7D-43C1-A239-3C9B3D63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2369-7B56-4DE1-9213-33BE5F6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3ADA-E961-4A5E-B8CD-F405995E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2195E-0111-4D6B-B344-B9F4A166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9E121-FBC2-4473-9580-CDFFAFD6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58B-07E4-45F9-8B4F-E3DBE3C3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C6E4-9766-4372-8FF1-0497F3CEF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1A4-5CF4-43B7-A0C2-6C525D2E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272D-F40B-460E-A044-39C548F6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46BA-814D-4BC3-A8A8-D99CDE6481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A751-3B1F-46E8-AD76-377E657A08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75D-E735-4A09-B3AD-633A47084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CBDB-A0F7-4CD3-84BF-855DFB9D4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hottopic.com/hottopic/Apparel/Dresses/Pale+Pink+Mesh+Tube+Dress-718600.jsp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Candara"/>
              </a:rPr>
              <a:t>La Ropa de Colleen y Cara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Por: Colleen y Car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8088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Ropa Elegant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11271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Pale Pink Mesh Tube Dress Sku 718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286000"/>
            <a:ext cx="3033720" cy="4572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5965920" y="0"/>
            <a:ext cx="3178080" cy="4876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429000" y="17524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5257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ell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traj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is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lanca y gris. El lleva en el oto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40384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rigida lleva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vestido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rosado f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s Trajes de Bano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191120" cy="41907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324480" y="3124080"/>
            <a:ext cx="2629080" cy="3500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5800" y="53053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n el verano, Carlos lleva un traje de b</a:t>
            </a:r>
            <a:r>
              <a:rPr b="1" lang="es-ES" sz="2400" spc="-1" strike="noStrike">
                <a:solidFill>
                  <a:srgbClr val="ffffff"/>
                </a:solidFill>
                <a:latin typeface="Candara"/>
              </a:rPr>
              <a:t>año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rojo 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ndara"/>
              </a:rPr>
              <a:t>gafas de sol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negr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8380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el verano, Cloe lleva un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raje de ban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ris, negro y ros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Los Pijama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4" name="" descr="Hoodie-Footie Blue Pajamas for Infants"/>
          <p:cNvPicPr/>
          <p:nvPr/>
        </p:nvPicPr>
        <p:blipFill>
          <a:blip r:embed="rId2"/>
          <a:stretch/>
        </p:blipFill>
        <p:spPr>
          <a:xfrm>
            <a:off x="6103800" y="2286000"/>
            <a:ext cx="304020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824200" cy="4114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124080" y="304812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En el invierno, Diego lleva las pijamas de p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4495680"/>
            <a:ext cx="2362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En el otono, Jorge llev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pijamas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 azules y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zapatillas</a:t>
            </a:r>
            <a:r>
              <a:rPr b="0" lang="en-US" sz="2800" spc="-1" strike="noStrike">
                <a:solidFill>
                  <a:srgbClr val="ffffff"/>
                </a:solidFill>
                <a:latin typeface="Candara"/>
              </a:rPr>
              <a:t> blan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os Zapato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08160" cy="4343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152880" cy="4724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457524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El muchacho es Hermes. Hermes llev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os blue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jeans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una camis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blanca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una chaquet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negro, 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os tenis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blanco y neg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2057400"/>
            <a:ext cx="243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La muchacho es Almira. Almira lleva l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cinta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 azul, una camisa gris y azul, y pantalones azul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52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Los Gorr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" descr="Green Fur Wolf Hat"/>
          <p:cNvPicPr/>
          <p:nvPr/>
        </p:nvPicPr>
        <p:blipFill>
          <a:blip r:embed="rId1"/>
          <a:stretch/>
        </p:blipFill>
        <p:spPr>
          <a:xfrm>
            <a:off x="6248520" y="2666880"/>
            <a:ext cx="2638440" cy="3976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Black Viking Fur Hat"/>
          <p:cNvPicPr/>
          <p:nvPr/>
        </p:nvPicPr>
        <p:blipFill>
          <a:blip r:embed="rId2"/>
          <a:stretch/>
        </p:blipFill>
        <p:spPr>
          <a:xfrm>
            <a:off x="355680" y="228600"/>
            <a:ext cx="2781360" cy="4191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76520" y="4648320"/>
            <a:ext cx="37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l muchacho es Alphonso. En el invierno, Alphonzo lleva un gorro de tor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1447920"/>
            <a:ext cx="2819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La muchacha es Gabriela. En el invierno, Ella lleva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ndara"/>
              </a:rPr>
              <a:t>gorro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 de perro ver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ndara"/>
              </a:rPr>
              <a:t>La Ropa Casu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3733920" cy="287496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715000" y="3181320"/>
            <a:ext cx="3295800" cy="36766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14800" y="114300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El muchacho es Aaron. Aaron lleva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sudader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gris, azul, y blanca,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camisill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blanca, y un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collar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419720"/>
            <a:ext cx="312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La muchacha es Ana. En el verano, Ana lleva los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pantalones cortos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y un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blusa</a:t>
            </a:r>
            <a:r>
              <a:rPr b="1" lang="en-US" sz="2400" spc="-1" strike="noStrike">
                <a:solidFill>
                  <a:srgbClr val="008000"/>
                </a:solidFill>
                <a:latin typeface="Candara"/>
              </a:rPr>
              <a:t> blanca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Candara"/>
              </a:rPr>
              <a:t>sin tiran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La Ropa Interi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1447920" y="4952880"/>
            <a:ext cx="2847960" cy="1609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4343400" y="1522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952880" y="510552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osotros sois Pablo y Encarnita. En el verano, Encarnita llev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andara"/>
              </a:rPr>
              <a:t>la ropa interior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negro en el verano. Pablo lleva la ropa interior negro y ve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9:09Z</dcterms:created>
  <dc:creator>reardoncol</dc:creator>
  <dc:description/>
  <dc:language>en-US</dc:language>
  <cp:lastModifiedBy>reardoncol</cp:lastModifiedBy>
  <dcterms:modified xsi:type="dcterms:W3CDTF">2011-12-16T15:03:00Z</dcterms:modified>
  <cp:revision>21</cp:revision>
  <dc:subject/>
  <dc:title>Slide 1</dc:title>
</cp:coreProperties>
</file>